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1DC7331-2F7D-4DEA-84AC-1ACF6EAB83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T.Tammet     IT sissejuhatus loeng 13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40B5FC48-45F5-467E-92B9-7A5B024A9F6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6344F-A19F-4C74-BE52-34B2477A9FA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9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incredibly complex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blueprints: gen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s are very small when compared to anima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contain copies of genes in huge amou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is it possible?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no recursion involved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according to some measur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The “simplicity” measure may be arbitrarily complex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recur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iterat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bar which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2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sise.ttu.ee/it/vorgutarkvara/wai2030/eckintrolabs/tmcm-java-labs/labs/xTurtleLab3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 bit more complex examples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math.hws.edu/TMCM/java/xTurtle/index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8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8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deklaratiiv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9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9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9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0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0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1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1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uhtad ja ebapuht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ebapuht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keeles -- Haskell, Hope, Miranda, FP -- ei ole programmeerijal peale funktsioonide defineerimise ja sisseehitatud baasfunktsioonide (aritmeetika, loendid jms) mingeid lisavahendeid -- kõik kõrvalefektid on keelatud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bapuhtad funktsionaalsed keeled - ML, Lisp, Scheme -  kombineerivad puhaste funktsionaalsete keelte mehhanisme imperatiivsete mehhanismid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2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2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3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3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0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d kind - infinite loop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ar is a car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(int x)  {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fact(x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od kind – loop is (hopefully) terminate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"ancestor" is either a parent or an ancestor of a pare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 (int x) {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x &lt;= 0) return 1;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return x * fact(x-1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$f(3)$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4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bapuhta keele näide: Schem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4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5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5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6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6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7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7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8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8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2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